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6203-3A45-4F47-9AB5-C307C72FA54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21FB-728E-4038-9F5D-FA8F00BB169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7938-F187-4A91-9C2D-CC3664A50D3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687B-6C05-4DB6-9DAC-3C87C84C74F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DBC7-BDE1-48FF-86A0-ED8499C3667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489F-EBF7-48E3-A075-9E8D99D443A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0E0A-0722-4B13-A4A0-24CDFB5798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8DF1-A613-478F-86DA-03942460B35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6CB7-83A7-4325-9423-1754EFFE3B8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92F-3410-42AF-BF84-ABEE08B8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0BA4-7014-4C00-BADE-8A06EE01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9F8-1C93-4F88-842D-F52DDD23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C0CA-9FD8-48C8-92BC-10ACE6FD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EA0E-32EC-4B5F-AAEE-2A07E3DB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892-6067-4C73-8466-922C5011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402-4481-446B-9162-6D2FD71E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1975-C8BE-476F-B90F-4F025A02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B380-C104-4BD9-A165-CC565B29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E2E4-6738-434C-B823-3E0743CC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19C6-BFC1-4B63-96A6-4D81B6F9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2B5-51FA-4827-ADC0-CCCF36C4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2D17-E71C-424A-94F0-605B4E1CD2EA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72CB-4E92-4117-B6D7-4F9CF55BF71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업비신청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29" descr=""/>
          <p:cNvPicPr/>
          <p:nvPr/>
        </p:nvPicPr>
        <p:blipFill>
          <a:blip r:embed="rId1"/>
          <a:srcRect l="13189" t="14814" r="14205" b="12345"/>
          <a:stretch/>
        </p:blipFill>
        <p:spPr>
          <a:xfrm>
            <a:off x="1352520" y="2795760"/>
            <a:ext cx="5564160" cy="3687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1763640" y="1503360"/>
            <a:ext cx="468360" cy="420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2231640" y="171468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협약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740040" y="41432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 신청 할 과제명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3973680" y="3630600"/>
            <a:ext cx="1170000" cy="162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3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4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48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5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직사각형 57"/>
            <p:cNvSpPr/>
            <p:nvPr/>
          </p:nvSpPr>
          <p:spPr>
            <a:xfrm>
              <a:off x="306000" y="3311640"/>
              <a:ext cx="5951880" cy="1336680"/>
            </a:xfrm>
            <a:prstGeom prst="rect">
              <a:avLst/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직사각형 58"/>
            <p:cNvSpPr/>
            <p:nvPr/>
          </p:nvSpPr>
          <p:spPr>
            <a:xfrm>
              <a:off x="3056040" y="3943440"/>
              <a:ext cx="1068480" cy="17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2" name="TextBox 59"/>
          <p:cNvSpPr/>
          <p:nvPr/>
        </p:nvSpPr>
        <p:spPr>
          <a:xfrm>
            <a:off x="1149480" y="3375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3851280" y="42130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일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담당자에게 문의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2062080" y="4761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직선 화살표 연결선 4"/>
          <p:cNvCxnSpPr>
            <a:stCxn id="161" idx="2"/>
            <a:endCxn id="163" idx="1"/>
          </p:cNvCxnSpPr>
          <p:nvPr/>
        </p:nvCxnSpPr>
        <p:spPr>
          <a:xfrm>
            <a:off x="3589200" y="4118040"/>
            <a:ext cx="262800" cy="23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66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7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8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extBox 23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TextBox 24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3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4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7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직사각형 58"/>
            <p:cNvSpPr/>
            <p:nvPr/>
          </p:nvSpPr>
          <p:spPr>
            <a:xfrm>
              <a:off x="2765160" y="4224600"/>
              <a:ext cx="1068480" cy="28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2625840" y="454176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2" name="직선 화살표 연결선 4"/>
          <p:cNvCxnSpPr>
            <a:endCxn id="183" idx="2"/>
          </p:cNvCxnSpPr>
          <p:nvPr/>
        </p:nvCxnSpPr>
        <p:spPr>
          <a:xfrm flipV="1">
            <a:off x="3298680" y="3193560"/>
            <a:ext cx="9288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4" name="그림 5" descr=""/>
          <p:cNvPicPr/>
          <p:nvPr/>
        </p:nvPicPr>
        <p:blipFill>
          <a:blip r:embed="rId5"/>
          <a:stretch/>
        </p:blipFill>
        <p:spPr>
          <a:xfrm>
            <a:off x="304920" y="1212840"/>
            <a:ext cx="6168960" cy="207972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6"/>
          <p:cNvSpPr/>
          <p:nvPr/>
        </p:nvSpPr>
        <p:spPr>
          <a:xfrm>
            <a:off x="5508720" y="14302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7"/>
          <p:cNvSpPr/>
          <p:nvPr/>
        </p:nvSpPr>
        <p:spPr>
          <a:xfrm>
            <a:off x="507960" y="187164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890720" y="23335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9" name="모서리가 둥근 직사각형 2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0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TextBox 26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6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201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직사각형 58"/>
            <p:cNvSpPr/>
            <p:nvPr/>
          </p:nvSpPr>
          <p:spPr>
            <a:xfrm>
              <a:off x="5807160" y="3471840"/>
              <a:ext cx="315720" cy="14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TextBox 66"/>
          <p:cNvSpPr/>
          <p:nvPr/>
        </p:nvSpPr>
        <p:spPr>
          <a:xfrm>
            <a:off x="3192480" y="5359320"/>
            <a:ext cx="3814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신청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’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or 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반려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4643280" y="338616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버튼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23"/>
          <p:cNvSpPr/>
          <p:nvPr/>
        </p:nvSpPr>
        <p:spPr>
          <a:xfrm>
            <a:off x="5807160" y="2946240"/>
            <a:ext cx="315720" cy="374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6" name="꺾인 연결선 8"/>
          <p:cNvCxnSpPr>
            <a:stCxn id="205" idx="3"/>
            <a:endCxn id="203" idx="3"/>
          </p:cNvCxnSpPr>
          <p:nvPr/>
        </p:nvCxnSpPr>
        <p:spPr>
          <a:xfrm>
            <a:off x="6122520" y="3133800"/>
            <a:ext cx="885240" cy="2364480"/>
          </a:xfrm>
          <a:prstGeom prst="bentConnector3">
            <a:avLst>
              <a:gd name="adj1" fmla="val 125834"/>
            </a:avLst>
          </a:prstGeom>
          <a:ln w="38160">
            <a:solidFill>
              <a:srgbClr val="953735"/>
            </a:solidFill>
            <a:miter/>
          </a:ln>
        </p:spPr>
      </p:cxnSp>
      <p:grpSp>
        <p:nvGrpSpPr>
          <p:cNvPr id="20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9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4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23Z</dcterms:modified>
  <cp:revision>139</cp:revision>
  <dc:subject/>
  <dc:title>PowerPoint 프레젠테이션</dc:title>
</cp:coreProperties>
</file>