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D833-E1A2-4D71-BD2E-BBEA246CE07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F0DB-6938-4242-B78D-673C63F2AC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CBE4-5936-43F3-88BA-1E9EA576190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2E2F-5AEE-4440-A5DB-58C67BF4194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2B59-DA62-47FD-AFAC-8B14359061A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4D6A-385F-46EA-8156-A4FAED35758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DE3E-E142-46F0-AA01-A10567BCDB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76D7-01E0-452F-9BB0-AFC7778595D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2B7E-CFEB-4DCB-8EEA-AD3F23A09BB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A31F-E5DC-45A6-9710-B22B01BC831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573-6C86-4F43-9365-87F339E3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0FEF-ADD1-45C8-A7F4-64254FCC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FD70-F2D4-40DB-9366-BAC0FC50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7A40-BE4B-472F-A2F0-678DEC88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A679-B771-4E43-ACD2-2D101052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DECA-6AF8-4D19-A9E7-ADA26C38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DD84-7236-431B-804D-4174CCB6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E1E-F9B2-44E6-92F5-9A332587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02B-E385-43EF-AED5-F1C55B1D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356B-97B2-46BE-BF4A-EEE751A5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20A4-FEA8-4CF0-BF18-E09A66FF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982-C958-4EA3-82AA-F437D178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FAE9-33A3-441B-8382-12800B2BF522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0800-A8B3-439D-83FD-DBC19D94127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그림 26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404640" y="1104840"/>
            <a:ext cx="6121440" cy="2665440"/>
          </a:xfrm>
          <a:prstGeom prst="rect">
            <a:avLst/>
          </a:prstGeom>
          <a:ln w="0">
            <a:noFill/>
          </a:ln>
        </p:spPr>
      </p:pic>
      <p:sp>
        <p:nvSpPr>
          <p:cNvPr id="207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209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210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2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Box 66"/>
          <p:cNvSpPr/>
          <p:nvPr/>
        </p:nvSpPr>
        <p:spPr>
          <a:xfrm>
            <a:off x="2124000" y="3881520"/>
            <a:ext cx="461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상태가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미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’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반려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5" name="꺾인 연결선 8"/>
          <p:cNvCxnSpPr>
            <a:stCxn id="216" idx="3"/>
            <a:endCxn id="214" idx="3"/>
          </p:cNvCxnSpPr>
          <p:nvPr/>
        </p:nvCxnSpPr>
        <p:spPr>
          <a:xfrm>
            <a:off x="5837040" y="2028600"/>
            <a:ext cx="905400" cy="1991160"/>
          </a:xfrm>
          <a:prstGeom prst="bentConnector3">
            <a:avLst>
              <a:gd name="adj1" fmla="val 125258"/>
            </a:avLst>
          </a:prstGeom>
          <a:ln w="38160">
            <a:solidFill>
              <a:srgbClr val="953735"/>
            </a:solidFill>
            <a:miter/>
          </a:ln>
        </p:spPr>
      </p:cxnSp>
      <p:sp>
        <p:nvSpPr>
          <p:cNvPr id="216" name="직사각형 27"/>
          <p:cNvSpPr/>
          <p:nvPr/>
        </p:nvSpPr>
        <p:spPr>
          <a:xfrm>
            <a:off x="5472000" y="1852560"/>
            <a:ext cx="365400" cy="352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19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0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결과보고서작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1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743040" y="2784600"/>
            <a:ext cx="611964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2997360" y="1079640"/>
            <a:ext cx="468000" cy="420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3465000" y="129060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제출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808440" y="32893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 작성할 과제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등록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6245280" y="3689280"/>
            <a:ext cx="363600" cy="1983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24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5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직사각형 57"/>
          <p:cNvSpPr/>
          <p:nvPr/>
        </p:nvSpPr>
        <p:spPr>
          <a:xfrm>
            <a:off x="668160" y="3567240"/>
            <a:ext cx="6188400" cy="10602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1335240" y="329076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68"/>
          <p:cNvSpPr/>
          <p:nvPr/>
        </p:nvSpPr>
        <p:spPr>
          <a:xfrm>
            <a:off x="4986360" y="474984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4" name="모서리가 둥근 직사각형 18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5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extBox 20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Box 22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70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1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2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직사각형 57"/>
          <p:cNvSpPr/>
          <p:nvPr/>
        </p:nvSpPr>
        <p:spPr>
          <a:xfrm>
            <a:off x="2517840" y="4684680"/>
            <a:ext cx="2514600" cy="320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6"/>
          <p:cNvSpPr/>
          <p:nvPr/>
        </p:nvSpPr>
        <p:spPr>
          <a:xfrm>
            <a:off x="5070600" y="472932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7" name="직선 화살표 연결선 17"/>
          <p:cNvCxnSpPr>
            <a:endCxn id="178" idx="2"/>
          </p:cNvCxnSpPr>
          <p:nvPr/>
        </p:nvCxnSpPr>
        <p:spPr>
          <a:xfrm flipV="1">
            <a:off x="3338280" y="3249360"/>
            <a:ext cx="9252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79" name="그림 18" descr=""/>
          <p:cNvPicPr/>
          <p:nvPr/>
        </p:nvPicPr>
        <p:blipFill>
          <a:blip r:embed="rId5"/>
          <a:stretch/>
        </p:blipFill>
        <p:spPr>
          <a:xfrm>
            <a:off x="341280" y="1268280"/>
            <a:ext cx="6175440" cy="2078280"/>
          </a:xfrm>
          <a:prstGeom prst="rect">
            <a:avLst/>
          </a:prstGeom>
          <a:ln w="0">
            <a:noFill/>
          </a:ln>
        </p:spPr>
      </p:pic>
      <p:sp>
        <p:nvSpPr>
          <p:cNvPr id="180" name="직사각형 19"/>
          <p:cNvSpPr/>
          <p:nvPr/>
        </p:nvSpPr>
        <p:spPr>
          <a:xfrm>
            <a:off x="5548320" y="14860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25"/>
          <p:cNvSpPr/>
          <p:nvPr/>
        </p:nvSpPr>
        <p:spPr>
          <a:xfrm>
            <a:off x="547560" y="1927080"/>
            <a:ext cx="503280" cy="19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68"/>
          <p:cNvSpPr/>
          <p:nvPr/>
        </p:nvSpPr>
        <p:spPr>
          <a:xfrm>
            <a:off x="1930320" y="238932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5" name="모서리가 둥근 직사각형 26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6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TextBox 29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TextBox 30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91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2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3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직사각형 57"/>
          <p:cNvSpPr/>
          <p:nvPr/>
        </p:nvSpPr>
        <p:spPr>
          <a:xfrm>
            <a:off x="5999040" y="3363840"/>
            <a:ext cx="470160" cy="184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66"/>
          <p:cNvSpPr/>
          <p:nvPr/>
        </p:nvSpPr>
        <p:spPr>
          <a:xfrm>
            <a:off x="3247920" y="357660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내용작성 완료 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Box 68"/>
          <p:cNvSpPr/>
          <p:nvPr/>
        </p:nvSpPr>
        <p:spPr>
          <a:xfrm>
            <a:off x="5648400" y="35751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99" name="직선 화살표 연결선 4"/>
          <p:cNvCxnSpPr>
            <a:stCxn id="197" idx="3"/>
            <a:endCxn id="198" idx="1"/>
          </p:cNvCxnSpPr>
          <p:nvPr/>
        </p:nvCxnSpPr>
        <p:spPr>
          <a:xfrm flipV="1">
            <a:off x="4643280" y="3714120"/>
            <a:ext cx="1005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0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2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3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17Z</dcterms:modified>
  <cp:revision>142</cp:revision>
  <dc:subject/>
  <dc:title>PowerPoint 프레젠테이션</dc:title>
</cp:coreProperties>
</file>