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9814-53EE-4039-B23F-A4EC59E2F0C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17D4-DD9C-4D27-AA8E-D8191188241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FD22-409F-4C1E-BDBF-24C7FBD9DE5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404C-F991-471E-B430-6B2B686D0A4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6295-6968-4BEB-B2F2-9F5411F39B6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3CBC-4FDB-48D7-A8E5-CDD28268362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2A23-E780-44D8-85CD-D0AEA0A4970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3982-3B0F-45DB-87C0-51C2262314D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35C8-DAB4-4B30-B915-8D587244E87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C0E3-ED0E-4490-B298-3D0A926F729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BBEC-2A37-40B9-A876-C517CBC5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4106-4332-4B9D-983A-8DB8A2F1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4177-9781-4E9D-9281-A9171567C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23A7-D3DA-41F5-9346-B23CD8C4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1FA4-230D-459B-931F-5D05E75B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B2ED-4F41-4BC7-843E-7210FD2C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DBA8-75AC-4872-865D-165C2154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6DEB-F8A4-4220-8DC2-BD3D00EB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E3E5-0CDF-4BFF-B9D6-771E28FA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50CB-A7E4-40A1-9B35-BF91211C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CCC0-AE2B-4160-BE0B-7BCFB3DB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F3F4-9280-4631-BB58-1F962D31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20A1-F839-43E5-9022-DBFE960C9C9F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6C99-5CB0-44CA-9D14-0CC3213EB39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그림 26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404640" y="1104840"/>
            <a:ext cx="6121440" cy="2665440"/>
          </a:xfrm>
          <a:prstGeom prst="rect">
            <a:avLst/>
          </a:prstGeom>
          <a:ln w="0">
            <a:noFill/>
          </a:ln>
        </p:spPr>
      </p:pic>
      <p:sp>
        <p:nvSpPr>
          <p:cNvPr id="207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8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209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210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2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TextBox 66"/>
          <p:cNvSpPr/>
          <p:nvPr/>
        </p:nvSpPr>
        <p:spPr>
          <a:xfrm>
            <a:off x="2124000" y="3881520"/>
            <a:ext cx="4618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상태가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미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’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반려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15" name="꺾인 연결선 8"/>
          <p:cNvCxnSpPr>
            <a:stCxn id="216" idx="3"/>
            <a:endCxn id="214" idx="3"/>
          </p:cNvCxnSpPr>
          <p:nvPr/>
        </p:nvCxnSpPr>
        <p:spPr>
          <a:xfrm>
            <a:off x="5837040" y="2028600"/>
            <a:ext cx="905400" cy="1991160"/>
          </a:xfrm>
          <a:prstGeom prst="bentConnector3">
            <a:avLst>
              <a:gd name="adj1" fmla="val 125258"/>
            </a:avLst>
          </a:prstGeom>
          <a:ln w="38160">
            <a:solidFill>
              <a:srgbClr val="953735"/>
            </a:solidFill>
            <a:miter/>
          </a:ln>
        </p:spPr>
      </p:cxnSp>
      <p:sp>
        <p:nvSpPr>
          <p:cNvPr id="216" name="직사각형 27"/>
          <p:cNvSpPr/>
          <p:nvPr/>
        </p:nvSpPr>
        <p:spPr>
          <a:xfrm>
            <a:off x="5472000" y="1852560"/>
            <a:ext cx="365400" cy="35244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8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19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20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4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결과보고서작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1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743040" y="2784600"/>
            <a:ext cx="6119640" cy="266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2997360" y="1079640"/>
            <a:ext cx="468000" cy="420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3465000" y="129060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제출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808440" y="328932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 작성할 과제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등록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6245280" y="3689280"/>
            <a:ext cx="363600" cy="1983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24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3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5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8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직사각형 57"/>
          <p:cNvSpPr/>
          <p:nvPr/>
        </p:nvSpPr>
        <p:spPr>
          <a:xfrm>
            <a:off x="668160" y="3567240"/>
            <a:ext cx="6188400" cy="10602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59"/>
          <p:cNvSpPr/>
          <p:nvPr/>
        </p:nvSpPr>
        <p:spPr>
          <a:xfrm>
            <a:off x="1335240" y="329076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68"/>
          <p:cNvSpPr/>
          <p:nvPr/>
        </p:nvSpPr>
        <p:spPr>
          <a:xfrm>
            <a:off x="4986360" y="474984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3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4" name="모서리가 둥근 직사각형 18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5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TextBox 20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TextBox 22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70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1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2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직사각형 57"/>
          <p:cNvSpPr/>
          <p:nvPr/>
        </p:nvSpPr>
        <p:spPr>
          <a:xfrm>
            <a:off x="2517840" y="4684680"/>
            <a:ext cx="2514600" cy="3207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6"/>
          <p:cNvSpPr/>
          <p:nvPr/>
        </p:nvSpPr>
        <p:spPr>
          <a:xfrm>
            <a:off x="5070600" y="472932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77" name="직선 화살표 연결선 17"/>
          <p:cNvCxnSpPr>
            <a:endCxn id="178" idx="2"/>
          </p:cNvCxnSpPr>
          <p:nvPr/>
        </p:nvCxnSpPr>
        <p:spPr>
          <a:xfrm flipV="1">
            <a:off x="3338280" y="3249360"/>
            <a:ext cx="9252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79" name="그림 18" descr=""/>
          <p:cNvPicPr/>
          <p:nvPr/>
        </p:nvPicPr>
        <p:blipFill>
          <a:blip r:embed="rId5"/>
          <a:stretch/>
        </p:blipFill>
        <p:spPr>
          <a:xfrm>
            <a:off x="341280" y="1268280"/>
            <a:ext cx="6175440" cy="2078280"/>
          </a:xfrm>
          <a:prstGeom prst="rect">
            <a:avLst/>
          </a:prstGeom>
          <a:ln w="0">
            <a:noFill/>
          </a:ln>
        </p:spPr>
      </p:pic>
      <p:sp>
        <p:nvSpPr>
          <p:cNvPr id="180" name="직사각형 19"/>
          <p:cNvSpPr/>
          <p:nvPr/>
        </p:nvSpPr>
        <p:spPr>
          <a:xfrm>
            <a:off x="5548320" y="14860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25"/>
          <p:cNvSpPr/>
          <p:nvPr/>
        </p:nvSpPr>
        <p:spPr>
          <a:xfrm>
            <a:off x="547560" y="1927080"/>
            <a:ext cx="503280" cy="198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68"/>
          <p:cNvSpPr/>
          <p:nvPr/>
        </p:nvSpPr>
        <p:spPr>
          <a:xfrm>
            <a:off x="1930320" y="238932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4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5" name="모서리가 둥근 직사각형 26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6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TextBox 29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TextBox 30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91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2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3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5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직사각형 57"/>
          <p:cNvSpPr/>
          <p:nvPr/>
        </p:nvSpPr>
        <p:spPr>
          <a:xfrm>
            <a:off x="5999040" y="3363840"/>
            <a:ext cx="470160" cy="18432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66"/>
          <p:cNvSpPr/>
          <p:nvPr/>
        </p:nvSpPr>
        <p:spPr>
          <a:xfrm>
            <a:off x="3247920" y="357660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내용작성 완료 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TextBox 68"/>
          <p:cNvSpPr/>
          <p:nvPr/>
        </p:nvSpPr>
        <p:spPr>
          <a:xfrm>
            <a:off x="5648400" y="35751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제출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99" name="직선 화살표 연결선 4"/>
          <p:cNvCxnSpPr>
            <a:stCxn id="197" idx="3"/>
            <a:endCxn id="198" idx="1"/>
          </p:cNvCxnSpPr>
          <p:nvPr/>
        </p:nvCxnSpPr>
        <p:spPr>
          <a:xfrm flipV="1">
            <a:off x="4643280" y="3714120"/>
            <a:ext cx="10058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0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1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2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3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17Z</dcterms:modified>
  <cp:revision>142</cp:revision>
  <dc:subject/>
  <dc:title>PowerPoint 프레젠테이션</dc:title>
</cp:coreProperties>
</file>